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F6B-B91B-4BC0-AA10-DEAD25F2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178-E407-4692-9F6C-8F1991D4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717-3B0D-4E5B-A390-6743197F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618-6CE8-46E3-99A7-1962DE5E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593C-6122-4076-AD14-3FC5CA06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1B85-182C-4363-9EEB-95998CC4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D329-50F2-4726-AF0E-85BDB4E5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7F3C-E73B-47C2-A323-4313880F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4091-2A4A-47E1-AAB0-641A1A15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CE5C-BA7B-4F30-A727-D470E77D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E09C-F74D-4115-B62A-8FF746E6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E73-1A9D-40F8-899A-DC2E7976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F89F-D87D-46A7-9C13-BC3B337A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92B0-8C03-4A02-93E4-5D792696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4CD4-DF78-452E-921D-00F57E31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C22C-5B2F-46B3-8C39-037C8493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0240-712F-4B3E-B5B4-1C856C13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5AD90-D3B9-436C-98A7-86F1183D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980F0-E24E-4A5A-ABD9-6BEF82DF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AC9DA-7D69-45A1-A601-BB1DD541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F3EB-5E5D-45BD-88E8-18C0E999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B8F98-E0BD-4479-B799-02ECDF29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AF0-0679-4461-8361-A623496B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9995-AB35-4D61-B87E-4E3055DC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1194-234E-4C05-8AC1-0D83BBC7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5C107-8423-4A7D-8EA2-27B265EC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14D20-27F6-4BFE-9E47-A39233BF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06669-366D-4A7B-88B5-84C1D070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3C23F-9F43-4D8C-94BD-AC526057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09DA0-2A94-4417-A401-82A603EF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CCD87-99C8-4358-B222-4E42FA2B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26605-0B01-4EC5-9B33-2303771A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F48B1-F79F-4FF4-8C43-9641E4E3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A21-4442-4011-82F0-7352B6BD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95EEC-9E2B-4862-90ED-5BDC08C6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3B59A-33DF-4B1B-B832-0887495C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B6F1-901E-46A4-93AD-60147F69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955F4-8132-41D2-9379-3E599494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7C4E3-43A5-456F-9769-B69C027C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F8A31-43CB-45B0-80E4-33A20007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5A664-09F8-46BA-927A-461199D2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64AFC-0E87-438D-BBD0-33800DD5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F98C0-FB99-4D29-BF79-C3508ED9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8C62B-9132-4048-BE96-44C7F970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B2F-F33D-4C11-9290-35877FB8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6B9BF-46B3-49C9-B512-6A906369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49442-556F-4259-B9FC-7155DBB1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9CE99-7FB5-47E1-9AF8-E3A3DD4B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370FB-B391-4C11-B29D-F16D96A1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F9339-4BF3-43E6-B338-90E43957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0A6F1-8BC2-4375-BE02-61436117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4CA7C-619F-49F9-8006-B18A1DAF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C660C-25FA-473D-812C-DDE48AD1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BF258-F383-4269-ACF7-32233597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C70FB-A582-40BC-AD86-A63CF980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3CD-87A4-447B-A566-EAEF2F1E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24952-633B-40A0-A1E8-1846263A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06598-4593-42A9-BA7B-F0E4425E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563B6-D10F-492D-92CA-B8AE08A1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B7182-0ACA-4579-AA88-00518FF7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B8D6D-5A1E-4D60-8095-487A6088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C2D36-D252-43C3-B887-8592A1DF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63DE6-7702-4A1B-85F8-4D4ADC72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32ACB-64AA-4A42-A4B1-50D0E673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4CFD3-959D-412A-B213-40B98D5F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895A2-0F52-4CC6-9366-1BC59A1E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6ECF-833B-4741-A03A-DE1BCEA3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E1F0B-A88B-4E03-9BF3-3F4A1BDE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CE091-8654-4E13-A12A-F1A285EC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59768-4956-4EB8-B1B5-9E2DFBB0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CC91C-5434-4B11-A79D-68153864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193A6-7D7C-41EF-8AC0-5E9EEE95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D433A-C94F-46EC-8337-B3EF387C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B654C-4BDF-4019-80F3-85E2030B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DEDBD-6CAD-4253-A0C4-1E69AF81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AE66F-1D44-4A48-8CCF-C3DC6F70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2ECB6-C9A9-46F2-9AF5-DF896DDE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DFC-912B-4970-8E78-200C2404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01B78-1F6F-41E1-94C1-217CAF95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29281-3F59-4A0A-A5A1-4B825155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F537C-780E-4E58-86DE-B83CC600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97222-2E5A-4976-8A19-27F05E76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D1A70-AB6C-4715-9ACA-B6581EFE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00D-4E6E-4B99-AE58-15B881BF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738D-8241-43CE-A0BD-82D951D74C2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CE99-6A66-4FB8-8BB7-D97EF6ADA6F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4687-7C00-4EDF-9A9F-F0AC4A2C6D0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7CCD-0773-4065-BF42-5040AA544E6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044A-38C0-457F-9D13-EC77F381613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8C95-DE9F-4AE4-BDC6-14685845C84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3F4E-2B70-4E86-B1CF-D2943F610BF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500040" y="2097000"/>
            <a:ext cx="8259840" cy="23353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9325080" y="3164400"/>
            <a:ext cx="71280" cy="51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900000" y="2133360"/>
            <a:ext cx="7407360" cy="30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1)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стационарное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– состояние системы, не изменяющееся во времени (Т = const, P = const); стационарное состояние может характеризоваться бесконечным числом температур или давлений, но в каждой точке они должны оставаться постоянным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581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43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2)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равновесное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– состояние, которое не изменяется со временем, причем эта неизменность не обусловлена протеканием какого-либо внешнего по отношению к системе процесса (равновесное – частный случай стационарного), температура и давление не только постоянны, но и остаются одинаковыми во всех точках системы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43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0cd78"/>
              </a:gs>
            </a:gsLst>
            <a:lin ang="5400000"/>
          </a:gradFill>
          <a:ln w="9360">
            <a:solidFill>
              <a:srgbClr val="5bd078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3)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неравновесное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– состояние системы, изменяющееся со временем, постоянство параметров в каждой точке системы поддерживается внешними по отношению к ней процессами. Следовательно, если изменяются внешние факторы, то изменяется и состояние системы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60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Пример: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металлический стержень, один конец которого нагревается, другой охлаждается. В определенный момент времени противоположные процессы (нагревание и охлаждение) приведут к установлению стационарного состояния, но не равновесного, т. к. постоянство параметров системы в каждой точке поддерживается внешним по отношению к системе процессом. Система окажется в состоянии равновесия только тогда, когда температура и давление внешней среды и каждой точки системы будут равными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553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Для растворов кроме температуры и давления необходимо учитывать концентрации растворенных вещест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 системе устанавливается равновесное состояние в результате того, что скорости двух противоположных направленных процессов уравниваются и равновесие нарушается при изменении условий протекания процесс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Такое равновесие называется динамическим, примером является химическое равновесие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9048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аждая система обладает некоторым запасом внутренней энергии U, мерой изменения которой при обратимых процессах служит теплота Q, поглощаемая системой, и работа А, совершаемая системой над окружающей средой. Внутренняя энергия U является термодинамической характеристикой вещества в заданном состоянии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4" name="Текст 2" descr=""/>
          <p:cNvPicPr/>
          <p:nvPr/>
        </p:nvPicPr>
        <p:blipFill>
          <a:blip r:embed="rId1"/>
          <a:stretch/>
        </p:blipFill>
        <p:spPr>
          <a:xfrm>
            <a:off x="1365120" y="262080"/>
            <a:ext cx="641988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89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Внутренняя энергия любой системы складывается из энергий, входящих в нее атомов и молекул. Она представляет собой сумму кинетической энергии движения частиц (атомов, молекул или ионов), потенциальной энергии межмолекулярного взаимодействия, энергии взаимодействия электронов и ядер в молекулах и энергии, отвечающей массе покоя частиц согласно уравнению Эйнштейна. Внутренняя энергия не относится к непосредственно измеряемым величинам. На опыте удается измерить только теплоту, поглощаемую или выделяемую системой, и определить работу, связанную с переходом из одного состояния системы в другое. 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611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ри любых процессах совокупность величин Q – A не зависит от пути перехода, это позволило определить изменение внутренней энергии системы с помощью уравн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dU = Q – A TdS – dU (1)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Положительным считается такое изменение энергии, которое отвечает увеличению U в системе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89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 случае равновесного процесс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A =dA = TdS – dU (2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ри S = const (равновесный адиабатный процесс)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dA = -dU и A = U1 - U2 (3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Интегрируя при постоянной Т уравнение (2) получаем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A = (U1 – TS1) - (U2 – TS2) (4)</a:t>
            </a:r>
            <a:br>
              <a:rPr sz="2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89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ведем обозначение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F = U – TS (5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олучим (при Т = const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A = F1 – F2 = - F (6)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где F – функция состояния, называемая изохорно – изотермическим потенцалом или свободной энергией системы. Переписав уравнение (5) в виде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U = F + TS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89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Физико- химический анализ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– это раздел общей химии, в основе которого лежит исследование зависимостей между составом и свойствами равновесных систем, найденные путем опыта такие соотношения изображают графически в виде диаграмм состояния и диаграмм состав – свойство. В настоящее время наиболее широко используются данные о зависимости от состава температур плавления и полиморфных превращений, давления пара или парциальных давлений компонентов в газовой фазе, эти данные получают различными методами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61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Можно рассматривать внутреннюю энергия, как энергию, состоящую из двух частей – свободной энергии F и связанной энергии TS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Изохорный потенциал системы, находящейся при постоянных объеме и температуре, стремится уменьшиться в самопроизволных процессах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едставим элементарную работу как сумму работы расширения и других видов работы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A = pdV + A (7)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где A - сумма элементарных работ всех видов, кроме работы расширения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582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Из уравнений (1, 7) получаем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A TdS – dU – pdV (8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Теперь можно найти A , получаемую при переходе системы из одного состояния в другое. Интегрируя это уравнение в соответствующих пределах при постоянных температуре и давлении и сгруппировав все величины, относящиеся к одному состоянию получим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A (U1 – TS1 + pV1) - (U2 – TS2 + pV2)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63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бозначив через G выражения, стоящие в скобках правой части уравнения, которые являются функциями состояния, т. 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G U – TS + pV F + pV H – TS (9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Для равновесных процессов A будет максимальн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A = G1 – G2 = - G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G – функция состояния, определяемая уравнением (9) и называемая изобарно – изотермическим потенциалом или свободной энергией системы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Самопроизвольные процессы всегда идут с уменьшением свободной энергии (при T = const и V = const) или соответственно ее изобарного потенциала (при T = const и р = const). Иными словами могут идти лишь те процессы, при которых система способна совершать работу.</a:t>
            </a:r>
            <a:br>
              <a:rPr sz="2500"/>
            </a:br>
            <a:br>
              <a:rPr sz="25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9048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Из I закона термодинамики известно, что поглощенная теплота Q определяется соотношением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Q = U + A,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если процесс элементарный (бесконечно малый), то можно записать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Q = dU + A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Для равновесного процесса выражение для II закона термодинамики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dS = Q /T или Q = TdS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3" name="Текст 2" descr=""/>
          <p:cNvPicPr/>
          <p:nvPr/>
        </p:nvPicPr>
        <p:blipFill>
          <a:blip r:embed="rId1"/>
          <a:stretch/>
        </p:blipFill>
        <p:spPr>
          <a:xfrm>
            <a:off x="1365120" y="334800"/>
            <a:ext cx="641988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60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Наибольшее значение для развития физико–химического анализа имели работы Н.С. Курнакова, хотя и до Н.С. Курнакова исследования зависимостей состав-свойство проводились многими химиками. Обычно наиболее информативно изучение зависимостей состав-температура фазового превращения (в том числе кипения, плавления и др.), но кроме того изучались и зависимости от состава таких физических свойств, как электропроводность, микротвердость, плотность, вязкость и т. </a:t>
            </a: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д.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89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Если не известна аналитическая зависимость состава системы от свойства, то для построения диаграммы состояния, необходимо исследовать то или иное свойство в концентрационном интервале от 0 – до 100 %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6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Диаграмма отражает, какие процессы могут происходить в системе: образование твердых или жидких растворов, возникновение химических соединений и т. д., а также определяются границы существования различных фаз. По форме максимума на диаграмме состояния можно судить о свойствах образующихся соединений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611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Изучение диаграмм состав-свойство имеет большое значение для синтеза новых соединений, с помощью методов ФХА открывают новое вещество, определяют условия его существования и выделяют для дальнейшего исследования свойств. Таким путем найдены многие сплавы, полупроводниковые, керамические </a:t>
            </a: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материалы и др. соединения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90480" y="1915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Вопрос о химическом равновесии можно рассматривать как одну из задач термодинамики – общей науки об условиях протекания процессов, сопровождающихся изменением энергии в форме теплообмена и совершения работы разного вида. Наиболее полные данные можно получить, когда рассматриваются обратимые изменения состояния системы, т. е. когда в каждый момент времени состояние системы практически неотличимо от равновесного. В обратимом процессе можно возвратить систему в первоначальное состояние без каких-либо изменений в окружающей среде. Под системой понимают совокупность тел, находящихся во взаимодействии между собой и отдельных от окружающей среды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Текст 2" descr=""/>
          <p:cNvPicPr/>
          <p:nvPr/>
        </p:nvPicPr>
        <p:blipFill>
          <a:blip r:embed="rId1"/>
          <a:stretch/>
        </p:blipFill>
        <p:spPr>
          <a:xfrm>
            <a:off x="542880" y="401760"/>
            <a:ext cx="79916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61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Система называется термодинамической, если между ее отдельными частями возможен обмен энерги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Если возможен обмен не только энергией, но и веществом, то такая система называется 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физико-химической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Пример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 – насыщенный раствор соли с некоторым избытком твердой соли на дне и паром над ним. В этой системе возможен обмен между твердой солью и ее водным раствором, между водным раствором и паром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ndara"/>
              </a:rPr>
              <a:t>1) закрытая – нет обмена веществом с внешней средой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ndara"/>
              </a:rPr>
              <a:t>2) адиабатическая – нет обмена теплотой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ndara"/>
              </a:rPr>
              <a:t>3) изолированная – невозможен обмен ни веществом, ни энергией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ndara"/>
              </a:rPr>
              <a:t>4) гетерогенная – внутри системы существует поверхность раздела, где происходят резкие скачкообразные изменения свойств (вода – лед)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ndara"/>
              </a:rPr>
              <a:t>5) гомогенная – нет поверхности раздела внутри системы, свойства системы изменяются непрерывно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Candara"/>
              </a:rPr>
              <a:t>6) однородная – гомогенная система в состоянии равновесия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6" name="Заголовок 2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ORK</cp:lastModifiedBy>
  <dcterms:modified xsi:type="dcterms:W3CDTF">2012-04-13T15:15:36Z</dcterms:modified>
  <cp:revision>7</cp:revision>
  <dc:subject/>
  <dc:title>Презентация PowerPoint</dc:title>
</cp:coreProperties>
</file>